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7A6-3D7B-40D3-9F5B-05857C8D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943-E0FE-4FEE-8034-40BA673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B27-D6D4-4181-A957-79181C4E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6F0-E4B6-4776-8261-922445BE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FA5-3921-4C0B-B8DF-AE8C49F1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E3F-F047-424F-BDD6-AA81354E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F3F-B42C-4892-AB21-113D92F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BF1-8F4A-4CB7-86F8-E33F4BB2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89A-EFB4-4E96-85C2-B2E65854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4B7-1FD2-497A-8639-BF45B3E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7B3-AC9F-4D1B-877F-1EA16F0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AB5-F7A3-4A51-9421-A66B1E2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9281-7FFE-45D6-8CF1-E230B1334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ies in Immu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1) AID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human immunodeficiency vir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8 yo M diagnosed with H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TMP/SMX for prophylaxis against P. carinii while CD4 T-cells are low, HAART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d by HIV-1, HIV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4 T-cells drops to 200-400 cells/u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3) Allergic Asthm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ype I hypersensitivity rxn – iNK T-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 yo M with persistent wheez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x: chronic asthma, rhin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 hx of asthma, allergic rhin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albuterol, Intal, disodium cromoglycate, steroid, antihistam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 history of allergies (atop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K T-cells express NK receptors and TCR/CD3 with invarient antigen receptor that recognize glycolipid Ag presented by MHC-1b to generate cytokines (IFN-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L-3, IL-13, TNF-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L-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4) Atopic Dermat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impaired cell-mediated immun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yo M with worsening ecz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x: numerous all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n cultured S. aureus, S. pyoge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mily hx of allergy, actopic dermatit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x: oxacillin, anti-histamines, steroids, coal tar, avoid allerg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ronic itchy inflammatory skin disorder (10% childr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IgE levels (IL-4, IL-13, influx of eosinophi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aired cell-mediated immunity (increased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CD4 cel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ective skin barrier (mutations in FLG encoding fliaggrin essential to integrity of sk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dritic cells secrete IL-12 on IgE cross-linking inducing T-cells to secrete IFN-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ausing chronic le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5) Drug-Induced Serum Sicknes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ype III hypersensitivity rxn – penicil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yo M with lobar pneunomia, treated with ampicil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d with penicil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puffy eyes, uticaria (hives), swollen face, wh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serum complement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discontinue penicillin, give Benadryl, albuterol, naproxen, prednis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biotics are the most common cause for serum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amounts of antigen and rapid IgG response form immune complexes (antigen excess) which are deposited in tissue and activate complement, also forming C3a and C5a and localized inflammatory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6) Celiac Diseas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Glut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yo F with distended abd, foul-smelling s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 for anti-gliadin IgA and IgG 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villous atro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x: Gluten-free d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d distension, diarrhea, malabsorp-tion, weigh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ten are modified by tissue transglutamase (TTG) making it antigenic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lls secrete IFN-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8) APECED*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IRE gene mu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 mo M with dry skin and lethargic movements, dx hypothyroid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ster has parathyroidism, Graves’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ckened fingernails with longitudinal notches and ridging, alopecia are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ed Addison’s disease and idiopathic thrombocytopenic purpu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oimmune polyglandular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osomal recessive inheri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IRE protein is a transcriptional activator in the thymus, defect causes lack of self-antigen expression and increase in self-reactive T-ce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d susceptibility to Candida albic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57200" y="6172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Autoimmune Polyendocrinopathy-Candidiasis-Ectodermal Dystro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1) Pemphigus Vulgar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utoantibody to desmoglein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5 yo M Ashkenazi J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umerous erosions and ulcers in mouth, sk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opsy shows antibody against desmoglein-3 (pemphigus antibo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Prednisone, cyclophosphami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oantibodies (IgG4) binds to desmoglein-3 upregulates proteinase which digests desmoglein-3 and the epidermis loses integrity, blistering, septic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sociated with Ashkenazi Jews (HLA-DR4 haplotype DRB1*040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2) Rheumatoid Arthrit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heumatoid factor, TNF-</a:t>
            </a:r>
            <a:r>
              <a:rPr b="0" i="1" lang="el-GR" sz="4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ning stiffness &gt;1 h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itis of 3+ j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itis in hand j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mmetrical arthritis of the same joint a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heumatoid nod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um rheumatoid fa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diographic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MAb against TNF-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 association with HLA-DRB1*0404 and HLA-DRB1*040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male &gt; m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ck synovial membrane, increased b.v. growth, inflammatory cells infilt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NF-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ominant cytok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4) Multiple Sclerosi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-cell mediated autoimmun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9 yo F with sudden loss of vision in one ey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mily hx of 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ed CNVII weakness, L arm and leg weakness, nystagmus, ataxia, slurred spee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FN-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corticosteroids, cyclophosphami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sclerotic (hard) plaques in white matter of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x female &gt; m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NS Ag are presented in peripheral lymphoid activating auto-reactive T-cells initiating inflammation in th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ylenation, interference with neuronal fun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45) Hemolytic Disease of the Newbor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Rh anti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ther: Blood A, Rh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tus: Blood A, Rh+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rect Coombs titer 1:8 and 1:1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niotic fluid bilirubin increasing, hemocrit from umbilical vein 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nfuse type O, Rh- blood into umbilical ve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ternal IgG cross into placenta during second trimester, hemolyze fetal red blood ce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ilirubin in amniotic fluid corresponds with hemolysis in fe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Rh- women given Rhogam at 28 wk and within 72 hr of deliv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3) CVID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ACI mu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0 yo F w/ recurrent respiratory and GI infe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er than normal levels of all Ig-subty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mal B/T-cell 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able to respond to pneumococcal vac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x: Giardia infection, thyroid insufficiency (antithyroid A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mily Hx: CVID, GI cancer, non-Hodgkin’s lympho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ation in TA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x: IVIg 35g q 2w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primary immunodefici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FF, APRIL in follicles (peripheral lymphoid) activate BAFF-R, TACI, BCMA receptors on B-cells to class switch to IgA and IgG and promote B-cell survi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ly sporadic cases, 10% TACI 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able to respond to APRIL, susceptible to pneumo-coccus, H. influen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autoimmune, gastric carcinoma, lympho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46) Kidney Graft and IDDM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-cell mediated autoimmunity - </a:t>
            </a:r>
            <a:r>
              <a:rPr b="0" i="1" lang="el-GR" sz="36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islet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yo M frequent urination, thirst, weight loss, dx diabetes melli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5 yo develops renal complications, HTN, extensive diabetic glomeruloscler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dney transplant, given cyclosporin, azathioprine, methylprednisolone, CD3 MAb when rej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 1 diabetes mellitus, IDDM, is T-cell mediated autoimmune attack on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let cells of the pancr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oorly controlled, kidneys are irreversibly damaged and requires dialysis, ultimately kidney transpla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47) Graft vs Host Disea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aft T-cells attack foreign h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 yo M with severe anemia, dx aplastic an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ne marrow transplant from br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4 days later, skin rash, watery diarrhea, dx acute GVHD, tx tacroli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resolve, tx anti-CD3, anti-CD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ight red rash involving palms and soles, GI involvement leads to watery diarrh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ture graft CD4 T-cells are activated and produce “cytokine storm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st for alloreactive T-cells with mixed lymphocyte re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by eliminating the graft T-ce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4) X-Linked SCID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IL-2R</a:t>
            </a:r>
            <a:r>
              <a:rPr b="0" i="1" lang="el-GR" sz="40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mu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mo M has thrush, RSV, Pseudomonas aerug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-cells, low I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 B-cell count, did not react to IL-2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responsive to PHA, ConA, PWM, immu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non-random X-chromosome inac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IVIg, ribavirin, TMP-STX, maternal marrow g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D: Thrush, persistent cough, intractable diarrh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-linked is different because B-cell count is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tation in IL-2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Xq11) is also part of IL-7 involved in T-cel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ful bone marrow graft yields normal life with Ig-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6) Omenn Syndrom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issense RAG-1/2 mu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mo M papular rash over body, palms, soles, purulent conjunctivit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osinophilia, high I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B-cells, little T-cells, no thymic sha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globul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cells express MHC-I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ssense RAG-1 mu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Tx, died of P. carinii pneuno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ssense mutation in RAG allows partial ability for V(D)J recombination resulting in no B-cells, and few oligoclonal T-ce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also be IL-7R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hain deficiency, DNA repair, or V(D)J recombination protein Arterm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with bone marrow transpla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2) Wiskott-Aldrich Syndrom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defective WASP prote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yo M with recurrent infections, eczema, asthma, bloody diarrh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, small platelet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IgM, increased IgA, I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immune response to PCV, PRP, TDaP, no T-cell response to ConA, P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Ab to blood group 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Splenectomy, IV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normally small plate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ective WASP on X-chromosome expressed in WBC and megakaryocyte do not initiate nucleation of actin affecting T-cell movement, cell division, Ag receptors, lose microvilli (bald T-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anti-polysacchride 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telets destroyed in spl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ceptible to pyogenic, opportunistic 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23) X-Linked Lymphoproliferative (XLP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AP loss of fxn deletion (SH2D1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yo M with persistent unexplained fever, neck lymphadenoa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atypical lymphocytes, EBV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pat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x: recurrent otitis media, bacterial pneu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hx of lymphomas, thrombocy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Acyclovir, IVIg, dexamethas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V infection w/ family h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2D1A gene (Xq25) encoding protein SAP have uncontrolled T-cell activation (inflammatory cytokines, hepatocyte Fas 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capacity to kill EBV-infected B-cells leading to fulminant infectious mono by not activating SLAM family of receptors in NK cells when activated by infected B-cells (no kil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5) IPEX*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issense mutation FOXP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 M with atopic dermatitis, diarrhea, diabetes, failure to thr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other died with diarrhea, low platel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villous atrophy, plasma, T-cell infilt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CD4CD25 ce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x: Immunosuppression, bone marrow transpl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tation in FOXP3 causes loss of fxn in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e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ells which breaks self-tolerance, uninhibited T-cell activation and induces autoimmune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rrhea, dermatitis, autoimmune diabetes, thrombocytopenia, anemia, hepatitis, hyper/hypo-thyroidism, food aller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57200" y="6172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Immune Dysregulation, Polyendocrinopathy, Enteropathy X-Linked Dis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8) Mixed Essential Cryoglobulinemi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hronic hepatitis C inf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2 yo M with fatigue, hepatomegaly, multiple purpuric spots on le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od transfusion 20y a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patitis C inf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itive for blood cryoglobul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yroglobulin are immune complexes can deposit on b.v. walls and activate compliment causing vasculitis, purpura; can deposit in joints and cause arthrit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also be caused by multiple myeloma, Waldenstrom’s macroglobulin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30) Lepromatous Leprosy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Mycobacterium lepr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yo F hypopigmented lesions over both a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, home location history of lepro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sebleeds, loss of sensation in periph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id-fast bacilli in le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chow’s foam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sponse to delayed hypersensitivity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x: dapsone, clofazamine, rifamp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nizes macrophages, grow best at 30⁰C at extremities, defectiv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esponse leads to ineffective Ab response and no macrophage activation, dissemination leads to extensive tissue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logical damage from Schwann cell infection and loss of myelin sh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sebleeds comm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07:33Z</dcterms:created>
  <dc:creator>JP</dc:creator>
  <dc:description/>
  <dc:language>en-US</dc:language>
  <cp:lastModifiedBy>JP</cp:lastModifiedBy>
  <dcterms:modified xsi:type="dcterms:W3CDTF">2008-11-13T04:38:59Z</dcterms:modified>
  <cp:revision>30</cp:revision>
  <dc:subject/>
  <dc:title>Immunology Cases</dc:title>
</cp:coreProperties>
</file>